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AE1EC0-A0EA-47DF-83E2-79D4CF83D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6172-7780-4CB8-9BC9-0616CCA27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ACFF-433E-480B-AC9F-CB89105C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6E51-67A6-4CB9-B1EF-4739E048C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2339-2A9E-4A0B-9CFF-FAE3F3E48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CB83-5D82-41A5-9988-9B72B6EC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7615-98F8-43BF-A34A-876C88A9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FA38-27A0-4396-A6A4-4A19F247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A4A2-50F7-48E3-91E5-F2DE2016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ACF5-080A-49B4-851C-4EF33BDB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6849-58C5-40E0-82AA-FCA9B84B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B60D-4089-40FF-B15C-A49FCDEE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575F-0D3B-4D9B-8AE9-44C05A95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4DCC2-820C-4668-A18E-9CDF97F09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01000" y="5943600"/>
            <a:ext cx="2079720" cy="16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iology.plosjournals.org/perlserv/?request=get-document&amp;doi=10.1371/journal.pbio.0060175&amp;ct=1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600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ic Gene Page X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57160"/>
            <a:ext cx="9070920" cy="50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C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MOD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 Diego, January 16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, or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vide a simple and consistent interchange format for commonly needed gene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biology.plosjournals.org/perlserv/?request=get-document&amp;doi=10.1371/journal.pbio.0060175&amp;ct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, making automated mining of gene info across species easier, if one wanted to, say, submit them to WikiP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6360" y="73080"/>
            <a:ext cx="9071280" cy="74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gen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ata_provider&gt;FlyBase&lt;/data_provi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cession&gt;FBgn0000490&lt;/access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ame type="primary"&gt;dpp&lt;/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ame type="synonym"&gt;Dpp&lt;/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bReference type="INTERPRO" key="69" id="IPR001111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bReference type="orthologs" key="93" id="HOMSA:ENP44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organis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ame type="common"&gt;fruit fly&lt;/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ame type="scientific"&gt;Drosophila melanogaster&lt;/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bReference type="NCBI Taxonomy" key="107" id="7227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organis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mapLocation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mapLocation map="genome" chromosome="2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sition="2428454..2459609" units="bp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mapLocation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ontolog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bReference type="GO" key="108" id="GO:0007455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roperty type="term" value="antennal disc morph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roperty type="evidence_code" value="inferred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dbReferen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iter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bReference type="pubmed" key="3368" id="17034783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iter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gen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imp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class Bio::GMOD::GenericGene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::GMOD::GenericGenePage::Ch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some abstract classes,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ony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tology_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ride new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y $page = Bio::GMOD::GenericGenePage-&gt;new($id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y $xml = $page-&gt;render_xml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provi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y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yeast set at gmod.or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gmod.org/cgi-bin/gbrowse/chado_yeas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 Bu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 Gilb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cott Cain</dc:creator>
  <dc:description/>
  <dc:language>en-US</dc:language>
  <cp:lastModifiedBy/>
  <cp:revision>0</cp:revision>
  <dc:subject/>
  <dc:title/>
</cp:coreProperties>
</file>